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BFE-29D2-4905-A6DD-3C311A6B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3DA-A0DB-4580-BCF9-70957E0C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66A5-1530-40D9-AB15-A1B4F96F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17D-2668-41CA-B48B-92C5D265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EBBD-FE76-4938-97BF-F9D53651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23E6-1838-427E-8B29-BE4A33BC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1D7B-97CD-4232-B947-18CAFB07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B56A-CEE7-480A-AD01-BFD9F690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3844-ED63-4887-A7D9-6ACA5829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9B9C-3E12-460D-8F99-754F03CD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F735-71F3-4BBD-A2B6-90197CB6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53C-167E-4536-A89F-998C6A74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CA1A-A7D8-450D-BDC7-B1FD8329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838B-D752-4372-BBD0-9D0C253D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1E28-0EDB-41E0-B672-0DD14710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C031-231F-4C2D-B68F-2CEF71FD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8494-93D9-4069-AE15-FA8383AE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DB50-D86F-4EF9-B1D8-A38D420D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58E19-AB07-46FB-9669-509B376C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3162D-102C-4506-92C1-C79F2657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4F45C-6BE6-434C-BF38-9100C2E7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BA285-02C4-4D99-8BF3-8F0DB92C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AFC-F36B-4080-91E1-412FDBD0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E6D13-6CB8-430B-B1FE-54F4CCBE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A4B05-993F-4DF8-A932-3451FC3B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4E40D-27F4-4D35-8EC0-D4E94F76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D324C-7947-4059-A416-62DDBE3D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2E75-1C2F-46F5-A699-6519AFAE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85CFA-EFAF-42DA-8E9C-FF8BFB24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B400D-CE69-45C7-B03E-8A1FAFA5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74D4A-5D4B-4A31-ADC7-F604A81B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8CF84-FCB0-4C9E-AA57-0D899EDC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0B8C8-FA9A-49C2-AC35-50DCC221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F29-FF85-4ED1-9C1A-2510E407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48D2B-C525-4DD3-849A-7575790C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41FC5-A271-4F7E-929C-A62FAFDD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FE0ED-5AD9-4EF4-A566-DC42296D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0886A-9025-4EAB-B7E8-3FC21675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982F6-C905-4F5D-A736-2E4BDE85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C46A5-D8D1-4FDF-8C0E-01759108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8D6E5-A35B-427C-97B4-03363839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F7023-34EB-48A7-82CF-1AAE1AB7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6B6CD-532F-4A60-9BA6-1E27CF6E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70E-08E5-47ED-8F1E-D68AE593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FA0-8A02-4E77-87BE-AE6833B9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578-AC51-4016-AEFB-5B71E244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541-E120-4E69-866A-3EFA043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745-4663-426A-AA05-18D86D61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5B04-FE77-4BE0-BC31-C55FDB1A83D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8F1F-71CE-4668-96EE-B35C092CB69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6950-8430-4862-AC0E-07B9B12F9AE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E3D6-26CA-4BD7-A0C9-448B6273B49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2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ER Diagram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tity-Relations (ER) Dia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es the interrelationships between entities in a datab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1ED2-44C9-4EDD-8E8B-9BC63458548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925200" y="3048120"/>
            <a:ext cx="17150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5802840" y="2819520"/>
            <a:ext cx="17640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3363840" y="4267080"/>
            <a:ext cx="17654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men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p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1"/>
          <p:cNvSpPr/>
          <p:nvPr/>
        </p:nvSpPr>
        <p:spPr>
          <a:xfrm flipV="1">
            <a:off x="5104800" y="3557520"/>
            <a:ext cx="685800" cy="1471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3"/>
          <p:cNvSpPr/>
          <p:nvPr/>
        </p:nvSpPr>
        <p:spPr>
          <a:xfrm flipH="1" flipV="1">
            <a:off x="2438280" y="4266720"/>
            <a:ext cx="914400" cy="762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Example: DVD rental Store System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829B-8411-4FA5-9C61-55A8F8FA6DB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http://wiki.ucalgary.ca/images/0/0a/ERDiagram.jpg"/>
          <p:cNvPicPr/>
          <p:nvPr/>
        </p:nvPicPr>
        <p:blipFill>
          <a:blip r:embed="rId1"/>
          <a:stretch/>
        </p:blipFill>
        <p:spPr>
          <a:xfrm>
            <a:off x="1447920" y="1631880"/>
            <a:ext cx="57909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se Stud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n appointment system in a clinic, where a patient can request to make an appointment to see a certain doctor at a specific time. Additionally, a doctor can use that system to record the timings where he would be available to see his patient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reserving an appointment, the receptionist has to make sure that the doctor speaks a language that the patient know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atient requests a specific device to be in the clinic, the receptionist should make sure that this device is available in the clinic to be reserv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, the receptionist should print  information  of the reserved appointment including the date, time, and clinic loc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41FC-F11D-4BFB-88BE-E90A1C76E95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3687-E07F-485B-A34D-086D116BEA0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3972960" y="4191120"/>
            <a:ext cx="15613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3972960" y="914400"/>
            <a:ext cx="15613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6639840" y="3505320"/>
            <a:ext cx="1561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1375920" y="762120"/>
            <a:ext cx="1907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4"/>
          <p:cNvSpPr/>
          <p:nvPr/>
        </p:nvSpPr>
        <p:spPr>
          <a:xfrm>
            <a:off x="1304640" y="2362320"/>
            <a:ext cx="171828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oin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d/Not 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6"/>
          <p:cNvSpPr/>
          <p:nvPr/>
        </p:nvSpPr>
        <p:spPr>
          <a:xfrm>
            <a:off x="163800" y="5181480"/>
            <a:ext cx="2054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8"/>
          <p:cNvSpPr/>
          <p:nvPr/>
        </p:nvSpPr>
        <p:spPr>
          <a:xfrm flipH="1" flipV="1">
            <a:off x="3276360" y="1371600"/>
            <a:ext cx="6858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0"/>
          <p:cNvSpPr/>
          <p:nvPr/>
        </p:nvSpPr>
        <p:spPr>
          <a:xfrm flipV="1">
            <a:off x="3048120" y="2484000"/>
            <a:ext cx="914400" cy="639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2"/>
          <p:cNvSpPr/>
          <p:nvPr/>
        </p:nvSpPr>
        <p:spPr>
          <a:xfrm>
            <a:off x="3032280" y="3654360"/>
            <a:ext cx="930240" cy="917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4"/>
          <p:cNvSpPr/>
          <p:nvPr/>
        </p:nvSpPr>
        <p:spPr>
          <a:xfrm flipH="1">
            <a:off x="685440" y="4114800"/>
            <a:ext cx="609480" cy="1066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6"/>
          <p:cNvSpPr/>
          <p:nvPr/>
        </p:nvSpPr>
        <p:spPr>
          <a:xfrm>
            <a:off x="5562720" y="2819520"/>
            <a:ext cx="1066680" cy="990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 flipV="1">
            <a:off x="5562000" y="4105440"/>
            <a:ext cx="1066680" cy="1380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9D86-766D-4844-BF29-DAFD33907C4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2678400" y="990720"/>
            <a:ext cx="2054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own Arrow 9"/>
          <p:cNvSpPr/>
          <p:nvPr/>
        </p:nvSpPr>
        <p:spPr>
          <a:xfrm>
            <a:off x="3505320" y="2362320"/>
            <a:ext cx="6858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846000" y="3352680"/>
            <a:ext cx="11178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1"/>
          <p:cNvSpPr/>
          <p:nvPr/>
        </p:nvSpPr>
        <p:spPr>
          <a:xfrm>
            <a:off x="4734720" y="3276720"/>
            <a:ext cx="16254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3"/>
          <p:cNvSpPr/>
          <p:nvPr/>
        </p:nvSpPr>
        <p:spPr>
          <a:xfrm flipH="1" flipV="1">
            <a:off x="1971720" y="3814560"/>
            <a:ext cx="2752560" cy="199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647640" y="5105520"/>
            <a:ext cx="66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ecause every device exists in only one clinic but clin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ave multip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What if the doctor speaks more than one language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B72D-1F9F-4E95-B1C8-301E4FE5392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3972960" y="914400"/>
            <a:ext cx="15613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6639840" y="3505320"/>
            <a:ext cx="1561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9"/>
          <p:cNvSpPr/>
          <p:nvPr/>
        </p:nvSpPr>
        <p:spPr>
          <a:xfrm>
            <a:off x="5545080" y="2484360"/>
            <a:ext cx="1084320" cy="1621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2CB0-E3F3-4387-BA22-3D5CCB13BCE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465840" y="914400"/>
            <a:ext cx="1398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6411240" y="2438280"/>
            <a:ext cx="1561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3211200" y="1523880"/>
            <a:ext cx="20736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10"/>
          <p:cNvSpPr/>
          <p:nvPr/>
        </p:nvSpPr>
        <p:spPr>
          <a:xfrm flipV="1">
            <a:off x="1873080" y="2057040"/>
            <a:ext cx="1327320" cy="289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1853640" y="5105520"/>
            <a:ext cx="41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lled many to many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7"/>
          <p:cNvSpPr/>
          <p:nvPr/>
        </p:nvSpPr>
        <p:spPr>
          <a:xfrm>
            <a:off x="5295960" y="2262240"/>
            <a:ext cx="1104840" cy="776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n ER Diagram for an online travel agency system. A new user is required to create a new profile with a username and password. After logging in the system, the user inquires about different flights. The user can perform booking, changing, and canceling flight reserva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have three main tables; users, flights, and booked-fl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what information should be included in each table and what the relationships among them should b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your ER diagram to contain information about planes, airlines, and preferred me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C18F-3005-4903-84DF-A8DF3713E29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4-08T17:26:00Z</dcterms:modified>
  <cp:revision>231</cp:revision>
  <dc:subject/>
  <dc:title>CPSC 203</dc:title>
</cp:coreProperties>
</file>